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69353"/>
        <c:axId val="54154545"/>
      </c:barChart>
      <c:catAx>
        <c:axId val="58669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54545"/>
        <c:crosses val="autoZero"/>
        <c:auto val="1"/>
        <c:lblAlgn val="ctr"/>
        <c:lblOffset val="100"/>
        <c:noMultiLvlLbl val="0"/>
      </c:catAx>
      <c:valAx>
        <c:axId val="54154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69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750-68E8-4FE1-8C96-19FA7DF2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1BC-89A8-4EA9-9518-519AB18D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222-78E0-4928-A901-DF523FD4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0A2-FCE3-4ED3-AB0B-9ABD5B3F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7A3-DE4B-4CF3-AA58-7CF2E0F3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DD8-F34F-4652-8908-F0D1BB92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E1F-95A2-49BD-8E2A-B588A02E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81D-39C8-49F6-AEAE-D8EB874D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A35-F7BF-4A37-8734-76C91941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282-77E7-4456-8707-0765B27B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D41-7C0E-4A60-8695-67C61DAF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C34-63B7-4299-B8BB-43390F83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52DAD-8467-43BA-B9B3-358995171D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