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74573"/>
        <c:axId val="52232321"/>
      </c:barChart>
      <c:catAx>
        <c:axId val="34174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32321"/>
        <c:crosses val="autoZero"/>
        <c:auto val="1"/>
        <c:lblAlgn val="ctr"/>
        <c:lblOffset val="100"/>
        <c:noMultiLvlLbl val="0"/>
      </c:catAx>
      <c:valAx>
        <c:axId val="52232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74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125-6C09-4DE3-B7DA-4FBC5B0D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97C-3EDF-4AF2-8A68-0758FCE6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5CF-70F7-4D78-A9D1-822530D2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B7B-9DB0-41E6-9531-8D9C11B9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EE0-44C1-491E-A77A-59DA496B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C59-1148-4E36-9AD0-891A1205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918-5080-43DD-88DC-B620AE55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E5A-A791-4508-991B-627C78BD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5A0-A623-42B8-8643-CF3C3313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682-F6FF-4479-BCCC-3809290D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AF6-3C11-4E66-AD1C-CF1E730D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B17F-5AB1-48F8-AA25-4261708F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116C5-394A-45C5-A1BA-B559CF8823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