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891711"/>
        <c:axId val="79796562"/>
      </c:barChart>
      <c:catAx>
        <c:axId val="13891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96562"/>
        <c:crosses val="autoZero"/>
        <c:auto val="1"/>
        <c:lblAlgn val="ctr"/>
        <c:lblOffset val="100"/>
        <c:noMultiLvlLbl val="0"/>
      </c:catAx>
      <c:valAx>
        <c:axId val="79796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91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5EF-5566-4845-B353-3E674873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2792-4EF9-426A-8BEB-863934A0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D4C-25AD-4D50-AB02-46480443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F12-6335-4C49-925E-4FCF8963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EDE9-9D8C-49FC-A99C-394EC57B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45E2-C796-4862-BE1F-A613419B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C32E-64D7-4EF1-99CA-8201F771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BE8A-10D8-4068-9677-E08DB828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810-4D17-410C-86E2-B3C73639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844E-AAA9-4324-A42B-31F5300A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256-B63E-4B07-A0C5-0D9003A4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EC5-88BC-42B9-AA13-055B5F14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D37F3-478C-456B-844D-431CA3992E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