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05870"/>
        <c:axId val="27823103"/>
      </c:barChart>
      <c:catAx>
        <c:axId val="91905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3103"/>
        <c:crosses val="autoZero"/>
        <c:auto val="1"/>
        <c:lblAlgn val="ctr"/>
        <c:lblOffset val="100"/>
        <c:noMultiLvlLbl val="0"/>
      </c:catAx>
      <c:valAx>
        <c:axId val="27823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05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325-C67B-4190-BB67-18287B02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C3B-BDD1-4243-930A-3BCE9591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107-4CE0-40B7-BAAE-2DD13DE0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F37-7969-4F90-BAD2-C16867E9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0AF-AD34-40E0-9B27-94762AC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5DA-7C91-4985-9635-595DA2E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814-ECE1-424B-B005-F1993F7E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AAC-A891-48FC-8591-4D4EE0A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341-590B-4480-924F-7FDAFBA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E47-8164-4515-8050-9772577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BDB-B526-4239-A4A7-1359307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894-95E0-4D9B-87E9-A9A9A3BC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9BDA7-9E02-489A-9E48-806FC0B2C5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