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06498"/>
        <c:axId val="28410452"/>
      </c:barChart>
      <c:catAx>
        <c:axId val="34606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10452"/>
        <c:crosses val="autoZero"/>
        <c:auto val="1"/>
        <c:lblAlgn val="ctr"/>
        <c:lblOffset val="100"/>
        <c:noMultiLvlLbl val="0"/>
      </c:catAx>
      <c:valAx>
        <c:axId val="28410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06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EFA-0245-4042-9622-D09F06D3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29A-E1CC-47A5-8C65-2B224080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035-3775-4F24-9B81-96B4DB40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350-6A85-45F6-8661-6D61D37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A3C-8854-4971-BE21-03E6BE1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76A-E6A6-42C6-8011-466E6AAC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F07-DBCC-450C-AF75-1F2FE5E9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CC3-FE23-4D6D-9550-BF773A97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A6A-E001-41F7-B9BA-F61BB24B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BE1-FA6F-4E59-9905-66CE17B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4B5-5A27-468D-94FA-EB04828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A50-E762-424A-A758-0061790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BA2C7-9048-4193-BCF7-E0CFF9471D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