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33501"/>
        <c:axId val="31080085"/>
      </c:barChart>
      <c:catAx>
        <c:axId val="14133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80085"/>
        <c:crosses val="autoZero"/>
        <c:auto val="1"/>
        <c:lblAlgn val="ctr"/>
        <c:lblOffset val="100"/>
        <c:noMultiLvlLbl val="0"/>
      </c:catAx>
      <c:valAx>
        <c:axId val="310800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33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46C-3998-4FA8-8DA4-BA830C00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439-FEB3-4636-90A5-DBE0821C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381-A5B1-4A72-959B-5C4D2444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E32-3F5B-4D25-8E06-61816FD8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C45-E803-4DC4-BBE9-B76DFF72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5AA-8E58-4C0C-B97C-BE4ABD14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AB9-C620-4726-AE56-E46B930E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485-83BF-4E93-8C92-3090B6CD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3F8-8033-4231-8695-0B1FD17B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AC8-812E-45B9-A291-30B371DE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CE73-CCC0-4871-93C7-55CDA17E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1EF-05FB-4F47-A98A-70E0C187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2A3B1-8B68-478E-8509-4278E021D3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