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27234"/>
        <c:axId val="53993474"/>
      </c:barChart>
      <c:catAx>
        <c:axId val="85727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93474"/>
        <c:crosses val="autoZero"/>
        <c:auto val="1"/>
        <c:lblAlgn val="ctr"/>
        <c:lblOffset val="100"/>
        <c:noMultiLvlLbl val="0"/>
      </c:catAx>
      <c:valAx>
        <c:axId val="53993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27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49D-02CB-4F7B-9912-588CA032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24C-8A4A-4BD7-8D89-9D725CBF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8D2-81A4-4263-A3A7-E2D9E8C5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81C-E781-42DC-80FB-A3535E3D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D41-ACD7-4DA9-B502-D391EB3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84C-20F8-4E73-8E33-E8FA6375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C3C-ED28-4567-AFD8-2C1FEF81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969-7465-4AEB-8D28-F6D4637C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EBC-9321-4FB4-808B-9EAE1E42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205-8A46-423F-97AB-92C8B37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6F8-DD90-48C0-B906-8509BFED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379-2D19-4E0E-A755-1C4C275B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4A0D6-A159-4FA4-8CFB-FCA618E5CA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