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198889"/>
        <c:axId val="7692487"/>
      </c:barChart>
      <c:catAx>
        <c:axId val="701988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92487"/>
        <c:crosses val="autoZero"/>
        <c:auto val="1"/>
        <c:lblAlgn val="ctr"/>
        <c:lblOffset val="100"/>
        <c:noMultiLvlLbl val="0"/>
      </c:catAx>
      <c:valAx>
        <c:axId val="76924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1988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6C6C-9692-4FDE-BEF6-9FC085B6A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6305-393A-4C2F-80D6-02840256B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D601-FCB0-4D84-81EE-E42897371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295A-F564-4299-9541-B986964C9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B84D-C9F6-4A86-8777-693F117A8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45E5-5916-44A8-9D18-17B35D661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3ADC-2877-4279-942A-675EB279F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8B69-3383-4A35-AFBC-ABAD0A3CA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9038-FE0B-4784-8067-DCC6DDF98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5270-77EB-469B-91AD-29B9EEB7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6A34-EA86-42AF-A7D7-4092FD3F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E068-FB39-4D58-80CF-23572A2A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35BF06-E5AA-4CAF-8F26-0EC3F42D6DC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