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930391"/>
        <c:axId val="56030667"/>
      </c:barChart>
      <c:catAx>
        <c:axId val="999303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030667"/>
        <c:crosses val="autoZero"/>
        <c:auto val="1"/>
        <c:lblAlgn val="ctr"/>
        <c:lblOffset val="100"/>
        <c:noMultiLvlLbl val="0"/>
      </c:catAx>
      <c:valAx>
        <c:axId val="560306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9303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BEBB-F346-4A03-B91C-1E417CCDE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8BF1-F4A4-4846-9815-E5B58F65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41D1-D167-4118-AA89-6540E772C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8208-754C-4FFB-B49F-5B9061615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D64F-2A33-45FB-8675-C78DA68E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5AC5-17D5-4E2D-B17D-31A04CBB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A1A4-6A36-492B-AF30-8CD8EE6A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3CD1-905F-4C25-AABB-5F6FC683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FB6F-2424-4375-BBA0-D917B014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33F3-D347-45B8-8702-DFC5824F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3328-E24B-426E-B899-264ECDF1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2377-D434-453F-B9F4-BD11FAF2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D0621E-C69F-43EF-8330-ECCD431C29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