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17789"/>
        <c:axId val="28612445"/>
      </c:barChart>
      <c:catAx>
        <c:axId val="66717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12445"/>
        <c:crosses val="autoZero"/>
        <c:auto val="1"/>
        <c:lblAlgn val="ctr"/>
        <c:lblOffset val="100"/>
        <c:noMultiLvlLbl val="0"/>
      </c:catAx>
      <c:valAx>
        <c:axId val="28612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7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0CF-D688-4F58-9B57-8BD45834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325-7C8B-427D-9221-C14D0E0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4C7-F3D2-4AAC-BD40-369568D4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2B8-4D7E-41F2-9E09-F5BF372A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B07-4563-432B-B4EC-B766E0C5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554-498E-4D4E-A989-D4CA7B3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8A6-0EFE-4891-882A-12F8C5E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9F7-62EB-43F4-BD35-051B0D0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B2F-CFDB-4703-8D20-6D85378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215-155A-4C2B-A640-94358FA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6C9-39F9-4F67-B3EE-3AFF5EB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673-9D95-451E-AD0F-CA16CC3B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CAA12-871A-42E1-950B-3662BFCF8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