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38928"/>
        <c:axId val="33580462"/>
      </c:barChart>
      <c:catAx>
        <c:axId val="15738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80462"/>
        <c:crosses val="autoZero"/>
        <c:auto val="1"/>
        <c:lblAlgn val="ctr"/>
        <c:lblOffset val="100"/>
        <c:noMultiLvlLbl val="0"/>
      </c:catAx>
      <c:valAx>
        <c:axId val="33580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38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265-5545-48CD-8EA5-CF5DD212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118-761B-476C-8673-A30D87AB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4FD-CC79-4D62-9D73-33EA9F73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B00-8B8C-4C7A-9CF2-C5A12431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CB1-BCBB-445F-B498-3D23A3E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8EB-BCFE-451F-B15B-BAB06F5C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418-9717-4935-9DD5-E6204CDB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5B7-86FA-44EE-9EA3-BE36AD43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962-AB5B-4C4C-8C21-B54216F8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B40-3F4D-4F7D-9DB4-70EFC571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065-631C-4BB4-A4B7-1D5142AE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D8C-D6A4-4FF9-A672-C95580A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45B8C-7C0B-49B7-9825-AE4CD7044E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