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8BCA-756E-4E04-AE04-ACF93D603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9B3B-5D99-4FE5-AF56-3CE503E10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3083-09FA-4140-897F-1A0217B14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BC13-A9E7-49E7-A308-EDE78DDF4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5D6A-F840-4547-A82A-82B3215AC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F002-3DE5-41F1-8367-4678BE18D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7B02-B5E3-4158-94CA-4A3FBCEB7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F53E-B4F6-4D32-9F49-B9747207A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78E9-2DC1-4A41-B705-CD262BEB1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8C28-C8E5-4778-834D-48CF87C22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5C61-6839-4ABC-9B19-3201C2BE0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2AD4-04E1-4B25-B79C-92B8A0269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D1CE2-A532-4395-8E50-7B9324F68B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gDings bullet chars tes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tangular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uare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border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te 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der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outline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filled diam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 of Dav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5 point s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Bilbo Baggins</cp:lastModifiedBy>
  <dcterms:modified xsi:type="dcterms:W3CDTF">2003-02-24T18:57:51Z</dcterms:modified>
  <cp:revision>5</cp:revision>
  <dc:subject/>
  <dc:title>WingDings bullet chars test:</dc:title>
</cp:coreProperties>
</file>